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1.jpeg" ContentType="image/jpeg"/>
  <Override PartName="/ppt/media/image22.png" ContentType="image/png"/>
  <Override PartName="/ppt/media/image24.jpeg" ContentType="image/jpeg"/>
  <Override PartName="/ppt/media/image20.jpeg" ContentType="image/jpeg"/>
  <Override PartName="/ppt/media/image19.png" ContentType="image/png"/>
  <Override PartName="/ppt/media/image18.jpeg" ContentType="image/jpeg"/>
  <Override PartName="/ppt/media/image17.jpeg" ContentType="image/jpeg"/>
  <Override PartName="/ppt/media/image6.jpeg" ContentType="image/jpeg"/>
  <Override PartName="/ppt/media/image33.jpeg" ContentType="image/jpeg"/>
  <Override PartName="/ppt/media/image27.jpeg" ContentType="image/jpeg"/>
  <Override PartName="/ppt/media/image11.jpeg" ContentType="image/jpeg"/>
  <Override PartName="/ppt/media/image28.jpeg" ContentType="image/jpeg"/>
  <Override PartName="/ppt/media/image7.jpeg" ContentType="image/jpeg"/>
  <Override PartName="/ppt/media/image34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31.jpeg" ContentType="image/jpeg"/>
  <Override PartName="/ppt/media/image4.jpeg" ContentType="image/jpeg"/>
  <Override PartName="/ppt/media/image25.png" ContentType="image/png"/>
  <Override PartName="/ppt/media/image32.jpeg" ContentType="image/jpeg"/>
  <Override PartName="/ppt/media/image5.jpeg" ContentType="image/jpeg"/>
  <Override PartName="/ppt/media/image26.jpeg" ContentType="image/jpeg"/>
  <Override PartName="/ppt/media/image9.png" ContentType="image/png"/>
  <Override PartName="/ppt/media/image36.jpeg" ContentType="image/jpeg"/>
  <Override PartName="/ppt/media/image2.jpeg" ContentType="image/jpeg"/>
  <Override PartName="/ppt/media/image23.jpeg" ContentType="image/jpeg"/>
  <Override PartName="/ppt/media/image10.png" ContentType="image/png"/>
  <Override PartName="/ppt/media/image35.jpeg" ContentType="image/jpeg"/>
  <Override PartName="/ppt/media/image1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EE768-A947-4D6E-9947-CBEC499DD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760C-C8A6-4B64-ABFF-72DCB5E14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9593-F038-40FF-AE76-BCA222F51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B58E-C348-4574-B31A-1C0235BC9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4E90-A740-427C-881F-0F8ACCEC4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DE1F7-8E45-4D72-869C-323B43FBE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E2C4-AF0B-4326-8C47-AB76181311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540-AFF2-4E60-8C5F-0060C8BC1C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51256-4B9D-4042-A7DF-AF7190A68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7E5D-BAAB-46B7-97FE-2AAFE5A5A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4330-BD1B-4BC2-9AF6-76F2961A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8ECED-9019-4A65-A67D-B1C76C62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C39FC-1A91-4A24-A250-D29AD85314D7}" type="slidenum">
              <a:rPr b="0" lang="sl-SI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image" Target="../media/image30.jpeg"/><Relationship Id="rId4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404280"/>
            <a:ext cx="7772400" cy="626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CHAIR OF ORTHOPAEDICS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www.mf.uni-lj.si/kort/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ortoped@mf.uni-lj.si</a:t>
            </a:r>
            <a:br>
              <a:rPr sz="4400"/>
            </a:br>
            <a:br>
              <a:rPr sz="4400"/>
            </a:br>
            <a:r>
              <a:rPr b="0" lang="sl-SI" sz="4400" spc="-1" strike="noStrike">
                <a:solidFill>
                  <a:srgbClr val="ffdb41"/>
                </a:solidFill>
                <a:latin typeface="Tahoma"/>
              </a:rPr>
              <a:t>blaz.mavcic@kclj.s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rone position!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8" name="Picture 4" descr="kolk rotaciji"/>
          <p:cNvPicPr/>
          <p:nvPr/>
        </p:nvPicPr>
        <p:blipFill>
          <a:blip r:embed="rId1"/>
          <a:stretch/>
        </p:blipFill>
        <p:spPr>
          <a:xfrm>
            <a:off x="6184800" y="260280"/>
            <a:ext cx="2492640" cy="37735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kolk rotaciji flex"/>
          <p:cNvPicPr/>
          <p:nvPr/>
        </p:nvPicPr>
        <p:blipFill>
          <a:blip r:embed="rId2"/>
          <a:stretch/>
        </p:blipFill>
        <p:spPr>
          <a:xfrm>
            <a:off x="3708360" y="3736800"/>
            <a:ext cx="345600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 </a:t>
            </a:r>
            <a:r>
              <a:rPr b="0" lang="sl-SI" sz="4400" spc="-1" strike="noStrike">
                <a:solidFill>
                  <a:srgbClr val="ffcc00"/>
                </a:solidFill>
                <a:latin typeface="Tahoma"/>
              </a:rPr>
              <a:t>FABER</a:t>
            </a: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:  DDg hip/SI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 the heel is put on the opposite kne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ip pain signifies intraarticular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acroiliac pain signifies sacroiliac joint patholog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" name="Picture 4" descr="1011_f2"/>
          <p:cNvPicPr/>
          <p:nvPr/>
        </p:nvPicPr>
        <p:blipFill>
          <a:blip r:embed="rId1"/>
          <a:stretch/>
        </p:blipFill>
        <p:spPr>
          <a:xfrm>
            <a:off x="5651640" y="2060640"/>
            <a:ext cx="2693880" cy="384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g length measurement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 of anterior superior spines or iliac crests; evaluation of pelvic til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absolute LLD (from ASI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easurements of the relative LLD (from umbilicus to medial malleolu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LD in stanc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scanometr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Leg length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discrepanc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solut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lative length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unctional length: leveling the pelvic tilt with blocks under the short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" name="Picture 4" descr="MEASUR_LEG_LENGTH"/>
          <p:cNvPicPr/>
          <p:nvPr/>
        </p:nvPicPr>
        <p:blipFill>
          <a:blip r:embed="rId1"/>
          <a:stretch/>
        </p:blipFill>
        <p:spPr>
          <a:xfrm>
            <a:off x="4859280" y="189000"/>
            <a:ext cx="2138400" cy="298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5" descr="APARENTLY_LONG_LEG"/>
          <p:cNvPicPr/>
          <p:nvPr/>
        </p:nvPicPr>
        <p:blipFill>
          <a:blip r:embed="rId2"/>
          <a:stretch/>
        </p:blipFill>
        <p:spPr>
          <a:xfrm>
            <a:off x="6056280" y="3068640"/>
            <a:ext cx="2838600" cy="345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KNEE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907_f1"/>
          <p:cNvPicPr/>
          <p:nvPr/>
        </p:nvPicPr>
        <p:blipFill>
          <a:blip r:embed="rId1"/>
          <a:stretch/>
        </p:blipFill>
        <p:spPr>
          <a:xfrm>
            <a:off x="1220760" y="0"/>
            <a:ext cx="6664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kne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rge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rectly under the sk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rone to injur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nisci enable distensibility and at the same time sufficient stabilit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s are the key stabiliz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lpation of typical knee poin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dductor tuberc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ellar ape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Tuberositas tibia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Fibular hea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ateral collateral liga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edial and lateral joint lin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ertion of pes anserin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erdy tubercle (insertion of tractus iliotibial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ecurvatum (= hyperextensi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Minimal rotation in 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ue contracture (pass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ability to extend (active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7" name="Picture 4" descr="romflexion1-1"/>
          <p:cNvPicPr/>
          <p:nvPr/>
        </p:nvPicPr>
        <p:blipFill>
          <a:blip r:embed="rId1"/>
          <a:stretch/>
        </p:blipFill>
        <p:spPr>
          <a:xfrm>
            <a:off x="5219640" y="189000"/>
            <a:ext cx="2766960" cy="19810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romflexion1-2"/>
          <p:cNvPicPr/>
          <p:nvPr/>
        </p:nvPicPr>
        <p:blipFill>
          <a:blip r:embed="rId2"/>
          <a:stretch/>
        </p:blipFill>
        <p:spPr>
          <a:xfrm>
            <a:off x="4932360" y="2060640"/>
            <a:ext cx="3352680" cy="24001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6" descr="romflexion1-3"/>
          <p:cNvPicPr/>
          <p:nvPr/>
        </p:nvPicPr>
        <p:blipFill>
          <a:blip r:embed="rId3"/>
          <a:stretch/>
        </p:blipFill>
        <p:spPr>
          <a:xfrm>
            <a:off x="5292720" y="4437000"/>
            <a:ext cx="2766960" cy="19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ircumference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ircumference over patella (effusio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5 cm above patella (recessu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10 cm above patella (muscles – atrophy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Rectangle 2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HIP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Effusion in the kne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Balottement”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of patel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knee in the extended posi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eft hand squeezes the suprapatellar recess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With right hand the patella is pressed against the “floor” (femoral trochlea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ella is floating and bumping over fem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exam1"/>
          <p:cNvPicPr/>
          <p:nvPr/>
        </p:nvPicPr>
        <p:blipFill>
          <a:blip r:embed="rId1"/>
          <a:stretch/>
        </p:blipFill>
        <p:spPr>
          <a:xfrm>
            <a:off x="5940360" y="2060640"/>
            <a:ext cx="3273480" cy="440352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Knee ax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557000"/>
            <a:ext cx="6202440" cy="453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Biomechanical axis in stance:  femoral head center, knee center, ankle ce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Discrepancy: valgus, var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Women have larger valgus (wider pelvis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Children first have varus, then valgus, eventually norm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Varus, valgus osteoarthriti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Laxity in the frontal plan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000" y="1413000"/>
            <a:ext cx="7210440" cy="231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xity of the knee in extension (indicating lesion of the anterior cruciate ligament) or only in 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lgus torque (X):  laxity of the medi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000" spc="-1" strike="noStrike">
                <a:solidFill>
                  <a:srgbClr val="ffffff"/>
                </a:solidFill>
                <a:latin typeface="Tahoma"/>
              </a:rPr>
              <a:t>Laxity at varus torque (O):  laxity of the lateral collateral ligament (and the anterior cruciate ligament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907_f4"/>
          <p:cNvPicPr/>
          <p:nvPr/>
        </p:nvPicPr>
        <p:blipFill>
          <a:blip r:embed="rId1"/>
          <a:stretch/>
        </p:blipFill>
        <p:spPr>
          <a:xfrm>
            <a:off x="3733920" y="3703680"/>
            <a:ext cx="5410080" cy="315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7427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An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9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Displacement of tibia </a:t>
            </a:r>
            <a:br>
              <a:rPr sz="2400"/>
            </a:b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2" name="Picture 4" descr="apinstabanteriordrawer1-1"/>
          <p:cNvPicPr/>
          <p:nvPr/>
        </p:nvPicPr>
        <p:blipFill>
          <a:blip r:embed="rId1"/>
          <a:stretch/>
        </p:blipFill>
        <p:spPr>
          <a:xfrm>
            <a:off x="4716360" y="2997360"/>
            <a:ext cx="4038840" cy="289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Lachman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20-3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eft hand fixates fem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ight hand draws tibia an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" name="Picture 4" descr="apinstablachman1-1"/>
          <p:cNvPicPr/>
          <p:nvPr/>
        </p:nvPicPr>
        <p:blipFill>
          <a:blip r:embed="rId1"/>
          <a:stretch/>
        </p:blipFill>
        <p:spPr>
          <a:xfrm>
            <a:off x="5292720" y="1916280"/>
            <a:ext cx="3311640" cy="2371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907_f3"/>
          <p:cNvPicPr/>
          <p:nvPr/>
        </p:nvPicPr>
        <p:blipFill>
          <a:blip r:embed="rId2"/>
          <a:stretch/>
        </p:blipFill>
        <p:spPr>
          <a:xfrm>
            <a:off x="5219640" y="4292640"/>
            <a:ext cx="3467160" cy="237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2" descr="apinstabposteriordrawer2-1"/>
          <p:cNvPicPr/>
          <p:nvPr/>
        </p:nvPicPr>
        <p:blipFill>
          <a:blip r:embed="rId1"/>
          <a:stretch/>
        </p:blipFill>
        <p:spPr>
          <a:xfrm>
            <a:off x="5148360" y="1589040"/>
            <a:ext cx="3527280" cy="252576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Anteromedial instability: 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osterior cruciate ligament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628280"/>
            <a:ext cx="48592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Posterior drawer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80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ranslation of tibia posteriorl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imilar to anterior drawer test: from reposition to sublux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mparison right/lef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Lateral inspection (contour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0" name="Picture 5" descr="apinstabposteriordrawer2-2"/>
          <p:cNvPicPr/>
          <p:nvPr/>
        </p:nvPicPr>
        <p:blipFill>
          <a:blip r:embed="rId2"/>
          <a:stretch/>
        </p:blipFill>
        <p:spPr>
          <a:xfrm>
            <a:off x="5148360" y="3821040"/>
            <a:ext cx="3527280" cy="25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anipulation in flexion: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meniscus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McMurray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ingers on the joint lin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/extension + rotation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lpable or visible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Painful clunc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3" name="Picture 4" descr="6340_2"/>
          <p:cNvPicPr/>
          <p:nvPr/>
        </p:nvPicPr>
        <p:blipFill>
          <a:blip r:embed="rId1"/>
          <a:stretch/>
        </p:blipFill>
        <p:spPr>
          <a:xfrm>
            <a:off x="6443640" y="260280"/>
            <a:ext cx="2244600" cy="34131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exam50"/>
          <p:cNvPicPr/>
          <p:nvPr/>
        </p:nvPicPr>
        <p:blipFill>
          <a:blip r:embed="rId2"/>
          <a:stretch/>
        </p:blipFill>
        <p:spPr>
          <a:xfrm>
            <a:off x="4103640" y="4199040"/>
            <a:ext cx="504036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atell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e largest sesamoid bo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mproves efficacy of knee exten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rior knee pain problems, patellar instabilit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907_f2"/>
          <p:cNvPicPr/>
          <p:nvPr/>
        </p:nvPicPr>
        <p:blipFill>
          <a:blip r:embed="rId1"/>
          <a:srcRect l="0" t="0" r="2693" b="0"/>
          <a:stretch/>
        </p:blipFill>
        <p:spPr>
          <a:xfrm>
            <a:off x="5457960" y="2176560"/>
            <a:ext cx="2354040" cy="372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Chondropathia patella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cc00"/>
                </a:solidFill>
                <a:latin typeface="Tahoma"/>
              </a:rPr>
              <a:t>Zohler tes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Knee extende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The patella is pressed downwar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Quadriceps contra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Comparison right/lef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e5ffff"/>
                </a:solidFill>
                <a:latin typeface="Tahoma"/>
              </a:rPr>
              <a:t>Pai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test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extens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Knee flexion power test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Palpation of typical points </a:t>
            </a:r>
            <a:br>
              <a:rPr sz="4000"/>
            </a:b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in the hip regio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reater trochanter (top, posterior border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iatic nerve outle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guinal ligament and pulse of the femoral artery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esser trochant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pina iliaca poster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4"/>
          <p:cNvSpPr/>
          <p:nvPr/>
        </p:nvSpPr>
        <p:spPr>
          <a:xfrm>
            <a:off x="684360" y="476280"/>
            <a:ext cx="7772400" cy="45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sl-SI" sz="6000" spc="-1" strike="noStrike">
                <a:solidFill>
                  <a:srgbClr val="ffcc00"/>
                </a:solidFill>
                <a:latin typeface="Tahoma"/>
              </a:rPr>
              <a:t>THE SHOULDER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3" descr="Figure 1A"/>
          <p:cNvPicPr/>
          <p:nvPr/>
        </p:nvPicPr>
        <p:blipFill>
          <a:blip r:embed="rId1"/>
          <a:srcRect l="0" t="0" r="2742" b="0"/>
          <a:stretch/>
        </p:blipFill>
        <p:spPr>
          <a:xfrm>
            <a:off x="0" y="549360"/>
            <a:ext cx="889488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4" name=""/>
          <p:cNvGraphicFramePr/>
          <p:nvPr/>
        </p:nvGraphicFramePr>
        <p:xfrm>
          <a:off x="2670120" y="-14054040"/>
          <a:ext cx="208080" cy="34931160"/>
        </p:xfrm>
        <a:graphic>
          <a:graphicData uri="http://schemas.openxmlformats.org/drawingml/2006/table">
            <a:tbl>
              <a:tblPr/>
              <a:tblGrid>
                <a:gridCol w="218880"/>
              </a:tblGrid>
              <a:tr h="641160">
                <a:tc>
                  <a:txBody>
                    <a:bodyPr tIns="46080" bIns="46080" anchor="ctr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7aeae"/>
                    </a:solidFill>
                  </a:tcPr>
                </a:tc>
              </a:tr>
              <a:tr h="34580520">
                <a:tc>
                  <a:txBody>
                    <a:bodyPr tIns="46080" bIns="4608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sl-SI" sz="13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</a:t>
                      </a:r>
                      <a:r>
                        <a:rPr b="0" lang="sl-SI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                                                                                                                    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25" name="Picture 3" descr="{short description of image}"/>
          <p:cNvPicPr/>
          <p:nvPr/>
        </p:nvPicPr>
        <p:blipFill>
          <a:blip r:embed="rId1"/>
          <a:stretch/>
        </p:blipFill>
        <p:spPr>
          <a:xfrm>
            <a:off x="2824200" y="-14007960"/>
            <a:ext cx="38160" cy="378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Figure 1B"/>
          <p:cNvPicPr/>
          <p:nvPr/>
        </p:nvPicPr>
        <p:blipFill>
          <a:blip r:embed="rId2"/>
          <a:stretch/>
        </p:blipFill>
        <p:spPr>
          <a:xfrm>
            <a:off x="2760840" y="-13366800"/>
            <a:ext cx="3714480" cy="22003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1" descr="Figure 1B"/>
          <p:cNvPicPr/>
          <p:nvPr/>
        </p:nvPicPr>
        <p:blipFill>
          <a:blip r:embed="rId3"/>
          <a:stretch/>
        </p:blipFill>
        <p:spPr>
          <a:xfrm>
            <a:off x="826920" y="2060640"/>
            <a:ext cx="7274160" cy="43084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7b9cb5"/>
                </a:solidFill>
                <a:latin typeface="Tahoma"/>
              </a:rPr>
              <a:t>Rotatory cuff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Glenohumeral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cromioclavik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kapulothoracic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ternoclavicular joi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Ligament between clavicula and scapul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capulohumeral rhythm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762120" y="17524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 of movemen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bitual lux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capula alata” when pressing against the wall (palsy n. thoracicus longus or m. serrati ant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Inspec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trophy of deltoid, supraspinat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uxation (anterior, posterior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cromioclavikular syndesmolysis (“piano key”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rama gibljivost1"/>
          <p:cNvPicPr/>
          <p:nvPr/>
        </p:nvPicPr>
        <p:blipFill>
          <a:blip r:embed="rId1"/>
          <a:stretch/>
        </p:blipFill>
        <p:spPr>
          <a:xfrm>
            <a:off x="0" y="2703600"/>
            <a:ext cx="5638680" cy="41544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562360" y="228240"/>
            <a:ext cx="380988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bakromial spac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cromioclavicular joi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oracoi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333760" y="30481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OM (act./pas.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 (in adduction or abduction 90°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79280" y="2205000"/>
            <a:ext cx="4316400" cy="32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Neer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tient sitting, doctor stand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rm between abduction and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elevates arm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at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9" name="Picture 5" descr="Figure 5"/>
          <p:cNvPicPr/>
          <p:nvPr/>
        </p:nvPicPr>
        <p:blipFill>
          <a:blip r:embed="rId1"/>
          <a:srcRect l="0" t="0" r="6756" b="0"/>
          <a:stretch/>
        </p:blipFill>
        <p:spPr>
          <a:xfrm>
            <a:off x="4351320" y="2276640"/>
            <a:ext cx="4468680" cy="38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250560" y="1980720"/>
            <a:ext cx="8281800" cy="159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Hawkins modification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 (testing impingment of supraspinatus under CA ligament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ante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Humerus 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1" name="Picture 5" descr="Figure 6"/>
          <p:cNvPicPr/>
          <p:nvPr/>
        </p:nvPicPr>
        <p:blipFill>
          <a:blip r:embed="rId1"/>
          <a:srcRect l="0" t="0" r="3580" b="0"/>
          <a:stretch/>
        </p:blipFill>
        <p:spPr>
          <a:xfrm>
            <a:off x="2124000" y="3573360"/>
            <a:ext cx="4824360" cy="3002040"/>
          </a:xfrm>
          <a:prstGeom prst="rect">
            <a:avLst/>
          </a:prstGeom>
          <a:ln w="0">
            <a:noFill/>
          </a:ln>
        </p:spPr>
      </p:pic>
      <p:sp>
        <p:nvSpPr>
          <p:cNvPr id="142" name="Rectangle 2"/>
          <p:cNvSpPr/>
          <p:nvPr/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s of subacromial impingment </a:t>
            </a:r>
            <a:r>
              <a:rPr b="0" lang="sl-SI" sz="4000" spc="-1" strike="noStrike">
                <a:solidFill>
                  <a:srgbClr val="e5ffff"/>
                </a:solidFill>
                <a:latin typeface="Wingdings"/>
                <a:ea typeface="Wingdings"/>
              </a:rPr>
              <a:t></a:t>
            </a: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 pai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Power of supraspinatu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abduction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Anteflexion 3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Maximal internal rot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tient resists downward pressure on the elbow, exerted by the doct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AC (acromioclavicular) join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spection (piano key at syndesmolysi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lp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Cross-arm tes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criteria (Rockwood classificaito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47" name="Picture 5" descr="Figure 7"/>
          <p:cNvPicPr/>
          <p:nvPr/>
        </p:nvPicPr>
        <p:blipFill>
          <a:blip r:embed="rId1"/>
          <a:stretch/>
        </p:blipFill>
        <p:spPr>
          <a:xfrm>
            <a:off x="5207040" y="2552760"/>
            <a:ext cx="292104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467208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nge of motion (ROM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uc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ex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ternal ro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Rotation measurements are done supine (in hip flexion) or prone (in hip extension)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47" name="Picture 4" descr="kolk rotaciji flex"/>
          <p:cNvPicPr/>
          <p:nvPr/>
        </p:nvPicPr>
        <p:blipFill>
          <a:blip r:embed="rId1"/>
          <a:stretch/>
        </p:blipFill>
        <p:spPr>
          <a:xfrm>
            <a:off x="5638680" y="4038480"/>
            <a:ext cx="3124440" cy="262584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5" descr="kolk rotaciji"/>
          <p:cNvPicPr/>
          <p:nvPr/>
        </p:nvPicPr>
        <p:blipFill>
          <a:blip r:embed="rId2"/>
          <a:stretch/>
        </p:blipFill>
        <p:spPr>
          <a:xfrm>
            <a:off x="5867280" y="0"/>
            <a:ext cx="2664000" cy="403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68360" y="3286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5122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Pain over sulcu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Yergason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 patient flexes and supinates elbow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Doctor rotates lower arm inwards and resists supin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 in the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0" name="Picture 5" descr="Figure 9"/>
          <p:cNvPicPr/>
          <p:nvPr/>
        </p:nvPicPr>
        <p:blipFill>
          <a:blip r:embed="rId1"/>
          <a:stretch/>
        </p:blipFill>
        <p:spPr>
          <a:xfrm>
            <a:off x="5108400" y="2205000"/>
            <a:ext cx="403560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db41"/>
                </a:solidFill>
                <a:latin typeface="Tahoma"/>
              </a:rPr>
              <a:t>Speed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test: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lbow flexion 20-3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, lower arm in supination, 6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teflexion, the doctor resists further shoulder flexion and palpates biceps in sulcu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2" name="Rectangle 2"/>
          <p:cNvSpPr/>
          <p:nvPr/>
        </p:nvSpPr>
        <p:spPr>
          <a:xfrm>
            <a:off x="468360" y="401760"/>
            <a:ext cx="8229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esting biceps brachii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an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“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Apprehension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”</a:t>
            </a:r>
            <a:br>
              <a:rPr sz="2800"/>
            </a:b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bduction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Examiner put stress on proximal humerus into forward direction; simultaneously with external ro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in, forward translation of the humeral head – </a:t>
            </a:r>
            <a:r>
              <a:rPr b="0" lang="sl-SI" sz="2800" spc="-1" strike="noStrike">
                <a:solidFill>
                  <a:srgbClr val="ffff00"/>
                </a:solidFill>
                <a:latin typeface="Tahoma"/>
              </a:rPr>
              <a:t>sign of instability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5" name="Picture 6" descr="Figure 8"/>
          <p:cNvPicPr/>
          <p:nvPr/>
        </p:nvPicPr>
        <p:blipFill>
          <a:blip r:embed="rId1"/>
          <a:srcRect l="0" t="0" r="2958" b="0"/>
          <a:stretch/>
        </p:blipFill>
        <p:spPr>
          <a:xfrm>
            <a:off x="4762440" y="2565360"/>
            <a:ext cx="3697200" cy="294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post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68360" y="234936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Shoulder put into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 abduction, elbow flexed 90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ffff"/>
                </a:solidFill>
                <a:latin typeface="Tahoma"/>
              </a:rPr>
              <a:t>Examiner applies pressure on proximal humerus into posterior direction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e5ffff"/>
                </a:solidFill>
                <a:latin typeface="Tahoma"/>
              </a:rPr>
              <a:t>Testing shoulder instability: </a:t>
            </a:r>
            <a:br>
              <a:rPr sz="4000"/>
            </a:br>
            <a:r>
              <a:rPr b="0" lang="sl-SI" sz="4000" spc="-1" strike="noStrike">
                <a:solidFill>
                  <a:srgbClr val="ffdb41"/>
                </a:solidFill>
                <a:latin typeface="Tahoma"/>
              </a:rPr>
              <a:t>inferior instability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24000" y="2420640"/>
            <a:ext cx="5364000" cy="370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„</a:t>
            </a:r>
            <a:r>
              <a:rPr b="0" lang="sl-SI" sz="2800" spc="-1" strike="noStrike">
                <a:solidFill>
                  <a:srgbClr val="ffdb41"/>
                </a:solidFill>
                <a:latin typeface="Tahoma"/>
              </a:rPr>
              <a:t>Sulcus sign“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(inferior glenohumeral instability)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When force applied into downward direction – gap laterally below acromion can be seen (can be normal in young populatio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0" name="Picture 5" descr="Figure 10"/>
          <p:cNvPicPr/>
          <p:nvPr/>
        </p:nvPicPr>
        <p:blipFill>
          <a:blip r:embed="rId1"/>
          <a:srcRect l="0" t="0" r="3858" b="0"/>
          <a:stretch/>
        </p:blipFill>
        <p:spPr>
          <a:xfrm>
            <a:off x="6012000" y="2133720"/>
            <a:ext cx="2808000" cy="374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 test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468360" y="1197000"/>
          <a:ext cx="8229600" cy="50594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tes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manever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db41"/>
                          </a:solidFill>
                          <a:latin typeface="Tahoma"/>
                        </a:rPr>
                        <a:t>Dg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Neer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umerus anteflexe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bacrom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awki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. 90, internal rotation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praspin. impigement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rop-arm test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ull abduction - Lower the arm to the side 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Rotator cuff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Horizont. add.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flexion 90, add.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C joint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“</a:t>
                      </a: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pprehension”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External rotation, abd. 90, 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</a:t>
                      </a: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ward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Ant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ulcus sign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Downward direction stress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Inferior instabilit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63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peed t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shoulder flexion, external rotation, full elbow extension</a:t>
                      </a:r>
                      <a:r>
                        <a:rPr b="0" lang="sl-SI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forearm supination; manual resist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sl-SI" sz="20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Biceps pathology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Shoulder:  Differential diagnosi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ffffff"/>
                </a:solidFill>
                <a:latin typeface="Tahoma"/>
              </a:rPr>
              <a:t>Rotator cuff patholog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Instability (anterior, posterior, multidirectiona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iceps tendinitis, instabilit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Osteonecr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Glenohumeral joint osteoarthr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alcific shoulder tendonit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Suprascapular nerve impinge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Brachial plexus palsy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Thoracic outlet syndrom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Cervical radiculopaty – nerve root entrapmen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 contracture: the Thomas tes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ffffff"/>
                </a:solidFill>
                <a:latin typeface="Tahoma"/>
              </a:rPr>
              <a:t>Flexion of the opposite hip obliterates lumbar lordosis and manifests the </a:t>
            </a:r>
            <a:r>
              <a:rPr b="0" lang="sl-SI" sz="2400" spc="-1" strike="noStrike" u="sng">
                <a:solidFill>
                  <a:srgbClr val="ffffff"/>
                </a:solidFill>
                <a:uFillTx/>
                <a:latin typeface="Tahoma"/>
              </a:rPr>
              <a:t>flexion contracture, compensated by extensive lumbar lordos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d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SHORT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bd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uction contracture:  functionally LONGER le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In hip osteoarthritis most often flexion contracture, adduction contracture and external rotational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981080"/>
            <a:ext cx="8435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Lying supin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Pacient “straightened” (pelvis must lie perpendicularly to the examination tabl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Three examin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ixation of pelvi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3" name="Picture 4" descr="2109_f7"/>
          <p:cNvPicPr/>
          <p:nvPr/>
        </p:nvPicPr>
        <p:blipFill>
          <a:blip r:embed="rId1"/>
          <a:stretch/>
        </p:blipFill>
        <p:spPr>
          <a:xfrm>
            <a:off x="6300720" y="3933720"/>
            <a:ext cx="2540160" cy="26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ROM in 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78920" y="1989000"/>
            <a:ext cx="4038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Flex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cc00"/>
                </a:solidFill>
                <a:latin typeface="Tahoma"/>
              </a:rPr>
              <a:t>The Thomas test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to unmask flexion contractur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56" name="Picture 4" descr="thomas1"/>
          <p:cNvPicPr/>
          <p:nvPr/>
        </p:nvPicPr>
        <p:blipFill>
          <a:blip r:embed="rId1"/>
          <a:stretch/>
        </p:blipFill>
        <p:spPr>
          <a:xfrm>
            <a:off x="826920" y="4221000"/>
            <a:ext cx="3176640" cy="22510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5" descr="Thomastest"/>
          <p:cNvPicPr/>
          <p:nvPr/>
        </p:nvPicPr>
        <p:blipFill>
          <a:blip r:embed="rId2"/>
          <a:stretch/>
        </p:blipFill>
        <p:spPr>
          <a:xfrm>
            <a:off x="5148360" y="1557360"/>
            <a:ext cx="3267000" cy="48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b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dd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476360" y="2852640"/>
            <a:ext cx="3394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c0600"/>
                </a:solidFill>
                <a:latin typeface="Tahoma"/>
              </a:rPr>
              <a:t>WRONG!!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60" name="Picture 4" descr="adductionofhip"/>
          <p:cNvPicPr/>
          <p:nvPr/>
        </p:nvPicPr>
        <p:blipFill>
          <a:blip r:embed="rId1"/>
          <a:stretch/>
        </p:blipFill>
        <p:spPr>
          <a:xfrm>
            <a:off x="5076720" y="3719520"/>
            <a:ext cx="4067280" cy="275760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Abduction Of Hip"/>
          <p:cNvPicPr/>
          <p:nvPr/>
        </p:nvPicPr>
        <p:blipFill>
          <a:blip r:embed="rId2"/>
          <a:stretch/>
        </p:blipFill>
        <p:spPr>
          <a:xfrm>
            <a:off x="5073480" y="907920"/>
            <a:ext cx="4070520" cy="273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e5ffff"/>
                </a:solidFill>
                <a:latin typeface="Tahoma"/>
              </a:rPr>
              <a:t>The hip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599840"/>
            <a:ext cx="38098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Radiographic evaluation:  varus, valgus,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antevers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lg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lang="sl-SI" sz="2800" spc="-1" strike="noStrike" u="sng">
                <a:solidFill>
                  <a:srgbClr val="ffffff"/>
                </a:solidFill>
                <a:uFillTx/>
                <a:latin typeface="Tahoma"/>
              </a:rPr>
              <a:t>varus</a:t>
            </a: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 cannot be seen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ffffff"/>
                </a:solidFill>
                <a:latin typeface="Tahoma"/>
              </a:rPr>
              <a:t>Anteversion of the femoral neck can be evaluated clinically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" name="Picture 4" descr="anteverzija"/>
          <p:cNvPicPr/>
          <p:nvPr/>
        </p:nvPicPr>
        <p:blipFill>
          <a:blip r:embed="rId1"/>
          <a:stretch/>
        </p:blipFill>
        <p:spPr>
          <a:xfrm>
            <a:off x="4419720" y="228600"/>
            <a:ext cx="4724280" cy="32796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varusvalgus"/>
          <p:cNvPicPr/>
          <p:nvPr/>
        </p:nvPicPr>
        <p:blipFill>
          <a:blip r:embed="rId2"/>
          <a:stretch/>
        </p:blipFill>
        <p:spPr>
          <a:xfrm>
            <a:off x="4427640" y="3435480"/>
            <a:ext cx="4724280" cy="314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7T06:41:22Z</dcterms:created>
  <dc:creator>Uporabnik</dc:creator>
  <dc:description/>
  <dc:language>en-US</dc:language>
  <cp:lastModifiedBy>ortop39</cp:lastModifiedBy>
  <dcterms:modified xsi:type="dcterms:W3CDTF">2020-12-10T09:24:50Z</dcterms:modified>
  <cp:revision>109</cp:revision>
  <dc:subject/>
  <dc:title>VAJE IZ ORTOPEDIJE</dc:title>
</cp:coreProperties>
</file>