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media/image8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9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543F-8CCC-4611-B8E9-BE7C917E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CAFCA-29F4-4587-8FE6-4A1EBACCE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2BC96-ED14-4D79-B742-E014EE5F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1D2C-04AD-41E2-9519-17ABE46A8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CC8C-EFA1-4294-BD81-34B71321A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509A9-2530-4CF8-B2E2-F69071C455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F25BB-08E7-4302-901B-A81336869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9AF98-84A4-4A23-9F66-5DF896709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B56F-778C-4484-A33A-2002E6939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AAA5-8479-4B5D-8EA4-2B0BD728D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DBCB-4C18-4ABE-B645-3B8A75A49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7067F-0F32-4D2F-B6AA-762FF0ACC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D6CE-28EE-43DC-A382-D92FFE6C72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22.40 a woman knocks on the door of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 clinic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bring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a 6-year-o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y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her hands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y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"Since yesterday morning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is limp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we encourag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 h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o walk, but it was not any better. Today, however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e do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ot wa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 use her right leg at al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he feels pain a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every movement."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t examination we fin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pection of the hip and knee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Knee and ankle freely movable, pain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: right groin and thig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20 °- 90 ° flexion (contracture), abduction 0 ° - 10 °, ext. rot. 5 °-15 ° (pai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 shortening of the affected le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eurological status nor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Preliminary diagnosis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Which of these should be treated</a:t>
            </a:r>
            <a:br>
              <a:rPr sz="3600"/>
            </a:br>
            <a:r>
              <a:rPr b="0" lang="sl-SI" sz="3600" spc="-1" strike="noStrike">
                <a:solidFill>
                  <a:srgbClr val="000000"/>
                </a:solidFill>
                <a:latin typeface="Arial"/>
              </a:rPr>
              <a:t>immediately (at 23h)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eptic arthritis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synovitis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f the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cute worsening of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ip dysplas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lipped capital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epiphy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the next step (at 23h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724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eat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 +  hip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OM exercises, hip ultrasound the next mor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19320" y="762120"/>
            <a:ext cx="6933960" cy="520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3"/>
          <p:cNvSpPr/>
          <p:nvPr/>
        </p:nvSpPr>
        <p:spPr>
          <a:xfrm>
            <a:off x="304920" y="1828800"/>
            <a:ext cx="8534160" cy="49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ho shall perform hip ultras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ose who are qualifi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ptic conditions for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nctur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(if it turns out to be indicat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nd a sampl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o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icrobiological examin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and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s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urulen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spiration mu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rfor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urther ac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ff0000"/>
                </a:solidFill>
                <a:latin typeface="Arial"/>
              </a:rPr>
              <a:t>NO ANTIBIOTIC UNTIL ASPIRATIO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mergency laboratory inverstigatio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ere should we refer the patient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heuma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fectolog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ediatric emergency dp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rthopaedic surge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57200" y="533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ANSPORT TO THE HOSPI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010280" cy="467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ab. tests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RP &lt;5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ucocytes 8.0 with normal differential cou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R 5 m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sound: medium size effusion </a:t>
            </a:r>
            <a:br>
              <a:rPr sz="3200"/>
            </a:b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               in the right hi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914400" y="596880"/>
            <a:ext cx="7391520" cy="565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2419200" y="0"/>
            <a:ext cx="5070600" cy="807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Now what (01:00 AM)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MRI of the hip + hip puncture in gener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puncture in local anesthe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ospital admission and observ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nctructions of strict resting, Rx for NSAR, dischar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sient synovitis of the hip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– treatmen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trict 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t least 1 wee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ould stay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walk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ROM EXERCIS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proxen syrup (NSAID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structions in case of worsen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Control exam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ultracou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1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eek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-ray if no improvement i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3 weeks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, then M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at should be done with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bvious septic arthritis of the hip (febrile child, CRP 120,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ffus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e hip) at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:00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6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114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mmediate antibiotic thera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then antibiotic therap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RI, puncture, drainage, then at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 child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ha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eptic arthr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lways consider the possibility of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osteomyeliti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reoper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RI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require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 perform the correct operational therapy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sel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moral head a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ostly 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tracapsula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so the delay of treatment poses a major risk for aseptic necrosis of the femoral he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ing afebrile 4-8 child =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ransient hip synovitis should be suspect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e septic arthritis, Perthes disease, slipped capital femoral epiphy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5720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AKE-HOME-MESS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st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children recov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out consequences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correct th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raph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ld be the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nitial pha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of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 th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erthes disea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nical 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 is essenti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night-time sleep, ultrasound and laboratory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00"/>
              </a:spcBef>
              <a:buClr>
                <a:srgbClr val="00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rrors: delay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septic arthritis, prescri</a:t>
            </a: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bing perora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ntibiotics "just in case" (should be given iv or nothing!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ANSIENT HIP SYNOVIT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457200" y="2746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ank you for quickly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xclu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eptic arthritis and se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ng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me home. Now my parents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will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le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me sta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n bed for a week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y Ninten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715000" cy="39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should be done now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5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419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mmediate referral to the hospi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Referral to the hospital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Examine the patient and then dec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800" spc="-1" strike="noStrike">
                <a:solidFill>
                  <a:srgbClr val="000000"/>
                </a:solidFill>
                <a:latin typeface="Arial"/>
              </a:rPr>
              <a:t>Issue analgesic prescription and examine tomorrow morn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important to ask i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tient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story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long does the pai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as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and w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er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it hur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id the chil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slee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during th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nigh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Fever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 Chills?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Any infect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ast month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rigger factors (trauma)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ontaneous pain o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ly at movemen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diseases, medications, allerg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gir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's mother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pli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 lasts 2 day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ight thigh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hurt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t night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woke up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onc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 had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ever up to 37°C yesterday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oday the temperature is nor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 do not remember injur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in when moving or standing, no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in be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gular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catio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ergi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4400" spc="-1" strike="noStrike">
                <a:solidFill>
                  <a:srgbClr val="000000"/>
                </a:solidFill>
                <a:latin typeface="Arial"/>
              </a:rPr>
              <a:t>What is our next step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TPChart"/>
          <p:cNvGraphicFramePr/>
          <p:nvPr/>
        </p:nvGraphicFramePr>
        <p:xfrm>
          <a:off x="4508640" y="1650960"/>
          <a:ext cx="4572000" cy="5143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TPChart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8640" y="1650960"/>
                    <a:ext cx="4572000" cy="514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Hip and knee pun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Clinical examination of lower extrem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Referral to laboratory tests of inflammation (the next morning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2400" spc="-1" strike="noStrike">
                <a:solidFill>
                  <a:srgbClr val="000000"/>
                </a:solidFill>
                <a:latin typeface="Arial"/>
              </a:rPr>
              <a:t>Immediate referral to the hospi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610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nical examination of the lower extremiti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spection (measurements, comparison with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althy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lim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lpation (swelling, effusion or thickening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flammation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 sign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rub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um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do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al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f.l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ange of motion (outstretched = 0° flexio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eurological status of the lower extrem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Painfu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point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 the hip, we pay particular attention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le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xi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contracture (Thomas tes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bsolute /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relativ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/ functional difference in the length of the lower extremit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imp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pain,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eg length discrepanc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pa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lsy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n 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e hip inspection </a:t>
            </a:r>
            <a:r>
              <a:rPr b="0" lang="sl-SI" sz="3200" spc="-1" strike="noStrike">
                <a:solidFill>
                  <a:srgbClr val="000000"/>
                </a:solidFill>
                <a:latin typeface="Arial"/>
              </a:rPr>
              <a:t>is less reliabl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 thick layer of muscl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80880" y="228600"/>
            <a:ext cx="4496040" cy="39816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4419720" y="685800"/>
            <a:ext cx="5219640" cy="247644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29200" y="4038480"/>
            <a:ext cx="380988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</cp:lastModifiedBy>
  <dcterms:modified xsi:type="dcterms:W3CDTF">2015-01-06T04:35:27Z</dcterms:modified>
  <cp:revision>17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