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142-A1AF-4B85-AB27-07496113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0D0-3E30-4208-938F-B955567B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ACA-D5E4-4A2E-B16B-1441AC4E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B5D-93CB-4F30-B2D3-9FE6A003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F91-AFA6-4E48-ABC1-B0F7642F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799-1C92-44CD-AE1E-0563A540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845-6787-4113-931D-46449AA9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9F2-90BE-497F-8E7F-D2BBAF0B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8B0-8CBA-436B-B01C-EFCC968A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80A-2FBE-4AA4-B7FE-4C496BF5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0C7-6D5A-4E44-8469-3515B0D7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F8C-5317-4874-91EB-E3B4F73C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45FC-6EA4-4388-BB12-AFF5C30F5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:39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a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knocks on the door of the clinic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b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ition and says with a suff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For 2 month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 have 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e 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ft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 the pa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ch worse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adi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dow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ft calf. I can not st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more. Ple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help me, paracetamol and ketoprofen did not improve my sufferin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spine and 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posture, physiological cur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, calf circum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and percussion, Homans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 ° of flexion) of the hip, knee, an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 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one, reflexes, sen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ular atten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be p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ègu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muscle streng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ities (walking on their toes / heels, getting up from the squ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fi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ra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gt; 3d FAST, ≤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URG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mat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hypoesthesi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 examination to tes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638680" y="206676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42004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29528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t examination 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lg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 g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rcum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mbar lor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Lasègu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50°, right n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hips and kne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of the left foot and big toe dorsiflex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vel 4) for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esthesia along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teral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ft lower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l examination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flexes 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ndylodis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ft hip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yndroma </a:t>
            </a:r>
            <a:r>
              <a:rPr b="0" i="1" lang="sl-SI" sz="3200" spc="-1" strike="noStrike">
                <a:solidFill>
                  <a:srgbClr val="000000"/>
                </a:solidFill>
                <a:latin typeface="Arial"/>
              </a:rPr>
              <a:t>caudae equ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ich spinal nerve is affe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s now, prescription for further analgesia at home, referral for MRI and 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, improvement is expected in 1-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 of the spine and then further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tme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 wee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t, analgesia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gesic PTH treatments (TENS,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I for confirmation of diagnosis and decisions regard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rg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is particular case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ical treatment i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e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en is emergency surgery indi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uncionally important palsy less than 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26240" y="3429000"/>
            <a:ext cx="308916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65760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uch cases should be immediately referred to the hospital with emergency MRI and emergency spinal surgical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whom would you refer such patient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it is not emergenc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hysical rehabilitation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 HERN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history /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nination 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not properly assess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perly ref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what is urgent (sphincter, paresis ≤ 3d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what should be oper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ckly and what does not requir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hould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nat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rse of the disease (2-3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eeks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tient triage without proper examinat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ay 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ase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hincter disorders, inaccurat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5909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14880" cy="340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403848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’m so glad surgery was not required. You are such an excellent doctor who healed me in 3 weeks just by applying bioenergy with warm hands. Now I can start Pilates training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 you do with the pat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he nex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scribe stronger analgesic and examine her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ow long has the pain been radiating to the ca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irst time in h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? Chill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u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SPHINCTER FUN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" y="957240"/>
            <a:ext cx="4800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adiating to the calf for 10 d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imes painful back and hip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 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ver or ch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trauma or 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gger fact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egular medications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fecation is rather infrequ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every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arter of a watermelon and drin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1 li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wa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rination is generally 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just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me urine dro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ked because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did not get to the toilet on time. 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eft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umbar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7T05:06:45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