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F99-A1E2-4A42-9256-C679CB88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4CB-0057-4723-BCA0-BCA5E303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D44-1C34-40A1-A6C2-87699DB3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E4C-9890-4936-A5B1-DF022310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1DD-A999-4DB6-951A-95F00F7F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AC5-F441-4DC5-91AE-9BFFFB67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4A6-4974-446D-BFCF-63176C52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715-F551-4A1B-940A-CF71C39A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23E-580D-495F-888B-039517AC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236-E3C0-4EAE-B90D-D7799284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688-D831-4A9B-B16A-B0D8884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043-21F1-4DFE-82F7-5CA8F45C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5408-81C3-42B6-8793-96067CC75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72-year-old patient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he clinic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22.41, he is limp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rai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the left trouser leg saying:</a:t>
            </a:r>
            <a:br>
              <a:rPr sz="3200"/>
            </a:b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left kne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ardet swelling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t 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it i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increasing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now it's already unsustainable.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to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racetamo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eto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phen, bu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improvemen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 "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ntibiotic treatment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aboratory + punctur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nee exercises, laboratory + punctur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knee pun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7"/>
          <p:cNvGrpSpPr/>
          <p:nvPr/>
        </p:nvGrpSpPr>
        <p:grpSpPr>
          <a:xfrm>
            <a:off x="990720" y="1494000"/>
            <a:ext cx="7315200" cy="4678200"/>
            <a:chOff x="990720" y="1494000"/>
            <a:chExt cx="7315200" cy="4678200"/>
          </a:xfrm>
        </p:grpSpPr>
        <p:pic>
          <p:nvPicPr>
            <p:cNvPr id="69" name="Picture 5" descr="M7250378-Fluid_aspiration_for_arthritis_treatment-SPL"/>
            <p:cNvPicPr/>
            <p:nvPr/>
          </p:nvPicPr>
          <p:blipFill>
            <a:blip r:embed="rId1"/>
            <a:stretch/>
          </p:blipFill>
          <p:spPr>
            <a:xfrm>
              <a:off x="1514520" y="1494000"/>
              <a:ext cx="641016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6"/>
            <p:cNvSpPr/>
            <p:nvPr/>
          </p:nvSpPr>
          <p:spPr>
            <a:xfrm>
              <a:off x="990720" y="5257800"/>
              <a:ext cx="7315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al medicine emerg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bulance600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y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150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11.5 with left-shift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se 1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50 ml, turbid, viscous, yellow-brow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meter (puncture fluid): Glucose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oult should be done with the puncture flu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microbiological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Gram staining, microbiological culture and microscopical exam (cryst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croscopical evaluation for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hrow away into a special container for biological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ram stain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2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biological culture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1-2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scopic exam (crystals):     1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ly it is 01:00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es the pacient need at 01:00 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Arthroscopic) knee lavage and i.v. a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.v. antibiotic, knee lavage only if no improvement in a few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roral antibiotic and knee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obillisation, antibiotic after micro cultures are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nee-deep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lavage, possibly arthrosc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sible blood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.v. atb, analgesic, immobilization, coo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fter microb. results adjustment of ATB therapy (negative result does not exclude septic arthritis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eat lavage if swelling re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 2-3 unsucsessful lavages: open arthrot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Long term consequences of </a:t>
            </a:r>
            <a:br>
              <a:rPr sz="4000"/>
            </a:b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septic arthrit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ft tissue tu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 of other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niscus ru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tural history of septic arthritis before the advent of antibio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Joint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Bony ankylosis (fibrous in T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Sepsis, sometimes ev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o ločimo septični artritis od akutne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CRP pri septičnem artrit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urat pri akutni pu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 makroskopskem izgledu punk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zitivna mikrobiologija in odsotnost kristalov v punkt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o je zdravljenje akutnega napada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razgibavanje, gretje, alopur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imobilizacija, hlajenje, N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tb, izpiranje kolena, hla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bijanje kristalov z UZ val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če ste prespali seminar, vsaj to poslušajt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liv v sklepu + vročina ali mrzlic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septični 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od putičnega lahko ločimo le z mikrobiološkimi-mikroskopskimi preiskav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,potentially serious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Without patient history and exam you cannot properly treat or refer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cture/lab.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vage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ntibi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: not recognizing emergency, delay, peroral antibiotic, antibiotic before puncture, no la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4724280"/>
            <a:ext cx="8839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ank you for saving my knee. I will recommend you to for the “Best ERASMUS Student” awar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818823-happy-elderly-man-in-a-garden"/>
          <p:cNvPicPr/>
          <p:nvPr/>
        </p:nvPicPr>
        <p:blipFill>
          <a:blip r:embed="rId1"/>
          <a:stretch/>
        </p:blipFill>
        <p:spPr>
          <a:xfrm>
            <a:off x="1447920" y="0"/>
            <a:ext cx="62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should we als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ow long do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For the first time in my lif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joint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 Chi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pontaneous pain, night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nee star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s getting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r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ime knee 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joints 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e had a fever up to 38 °C, occasional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hill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Regularly taking insul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the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ferral for laboratory test of inflammation (next 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Clinical examination of the knee shoul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kne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rubor, tumor, dolor, calor, f.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Range of motion (outstretched = 0 ° of flex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3014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t examination you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Severely swollen left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ositive balottement (extensive effusion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thout redness, warm,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The mobility of the 20 ° - 50 ° of flexion (contra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Diffuse tenderness, without localize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Glucometer) 12.0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g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abete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15:25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