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D775-BE64-4E92-B70F-067C58A80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68CF4-0EC9-468B-A869-349E000E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97A51-9D54-4AEB-AC43-F97FA374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590A-5BDD-471B-A502-6B4EDB00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A67FD-F19C-4949-B25A-6C030A3039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8BF39-2EA7-4C9F-A437-116D5FA2E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C89-E6B6-47CF-8D18-D59A42983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59D5-3919-45E4-BB09-915601E2D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C355-D491-4C15-8B77-195FB4D9D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5A319-C96D-4686-9D33-56F24672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283AB-15C9-432D-B288-03E9ED52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BA202-3154-458C-B898-95860EC65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2DF94-C172-4502-85D8-5A69B5F9B9D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72-year-old patient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he clinic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22.41, he is limp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rai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the left trouser leg saying:</a:t>
            </a:r>
            <a:br>
              <a:rPr sz="3200"/>
            </a:b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y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left kne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ardet swelling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last 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it i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increasing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now it's already unsustainable.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 to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racetamol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eto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ophen, bu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improvemen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 "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Antibiotic treatment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Laboratory + puncture immediat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Knee exercises, laboratory + puncture next d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knee punctur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case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5" descr="0"/>
          <p:cNvPicPr/>
          <p:nvPr/>
        </p:nvPicPr>
        <p:blipFill>
          <a:blip r:embed="rId1"/>
          <a:stretch/>
        </p:blipFill>
        <p:spPr>
          <a:xfrm>
            <a:off x="2286000" y="1714680"/>
            <a:ext cx="4572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Group 7"/>
          <p:cNvGrpSpPr/>
          <p:nvPr/>
        </p:nvGrpSpPr>
        <p:grpSpPr>
          <a:xfrm>
            <a:off x="990720" y="1494000"/>
            <a:ext cx="7315200" cy="4678200"/>
            <a:chOff x="990720" y="1494000"/>
            <a:chExt cx="7315200" cy="4678200"/>
          </a:xfrm>
        </p:grpSpPr>
        <p:pic>
          <p:nvPicPr>
            <p:cNvPr id="69" name="Picture 5" descr="M7250378-Fluid_aspiration_for_arthritis_treatment-SPL"/>
            <p:cNvPicPr/>
            <p:nvPr/>
          </p:nvPicPr>
          <p:blipFill>
            <a:blip r:embed="rId1"/>
            <a:stretch/>
          </p:blipFill>
          <p:spPr>
            <a:xfrm>
              <a:off x="1514520" y="1494000"/>
              <a:ext cx="6410160" cy="422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0" name="Rectangle 6"/>
            <p:cNvSpPr/>
            <p:nvPr/>
          </p:nvSpPr>
          <p:spPr>
            <a:xfrm>
              <a:off x="990720" y="5257800"/>
              <a:ext cx="7315200" cy="9144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ternal medicine emerge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609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ambulance600"/>
          <p:cNvPicPr/>
          <p:nvPr/>
        </p:nvPicPr>
        <p:blipFill>
          <a:blip r:embed="rId1"/>
          <a:stretch/>
        </p:blipFill>
        <p:spPr>
          <a:xfrm>
            <a:off x="1143000" y="121932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oratory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150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11.5 with left-shift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se 13.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50 ml, turbid, viscous, yellow-brownis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lucometer (puncture fluid): Glucose 2.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oult should be done with the puncture fluid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microbiological cul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Send for Gram staining, microbiological culture and microscopical exam (crystal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acroscopical evaluation for bacter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Throw away into a special container for biological was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ram stain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2 hou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biological culture: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in 1-2 day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icroscopic exam (crystals):     1 week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sently it is 01:00 A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What does the pacient need at 01:00 AM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TPChart"/>
          <p:cNvGraphicFramePr/>
          <p:nvPr/>
        </p:nvGraphicFramePr>
        <p:xfrm>
          <a:off x="4572000" y="1714680"/>
          <a:ext cx="4572000" cy="5143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0" y="1714680"/>
                    <a:ext cx="4572000" cy="5143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(Arthroscopic) knee lavage and i.v. at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.v. antibiotic, knee lavage only if no improvement in a few day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Peroral antibiotic and knee exerci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obillisation, antibiotic after micro cultures are obtain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5" descr="knee-deep"/>
          <p:cNvPicPr/>
          <p:nvPr/>
        </p:nvPicPr>
        <p:blipFill>
          <a:blip r:embed="rId1"/>
          <a:stretch/>
        </p:blipFill>
        <p:spPr>
          <a:xfrm>
            <a:off x="2209680" y="0"/>
            <a:ext cx="4572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lavage, possibly arthroscopi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ossible blood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.v. atb, analgesic, immobilization, coo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fter microb. results adjustment of ATB therapy (negative result does not exclude septic arthritis!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eat lavage if swelling recur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1440" indent="-2714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 2-3 unsucsessful lavages: open arthrotom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5" descr="0"/>
          <p:cNvPicPr/>
          <p:nvPr/>
        </p:nvPicPr>
        <p:blipFill>
          <a:blip r:embed="rId1"/>
          <a:stretch/>
        </p:blipFill>
        <p:spPr>
          <a:xfrm>
            <a:off x="2209680" y="1600200"/>
            <a:ext cx="4800600" cy="36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Long term consequences of </a:t>
            </a:r>
            <a:br>
              <a:rPr sz="4000"/>
            </a:br>
            <a:r>
              <a:rPr b="0" lang="sl-SI" sz="4000" spc="-1" strike="noStrike">
                <a:solidFill>
                  <a:srgbClr val="000000"/>
                </a:solidFill>
                <a:latin typeface="Arial"/>
              </a:rPr>
              <a:t>septic arthriti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oft tissue tum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 of other j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niscus rup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atural history of septic arthritis before the advent of antibiotic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Joint osteo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Bony ankylosis (fibrous in TB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 Sepsis, sometimes even deat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o ločimo septični artritis od akutne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CRP pri septičnem artritis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višan urat pri akutni putik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 makroskopskem izgledu punkt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ozitivna mikrobiologija in odsotnost kristalov v punktat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akšno je zdravljenje akutnega napada putik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razgibavanje, gretje, alopurin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kcija, imobilizacija, hlajenje, NS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tb, izpiranje kolena, hlajenj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91120" indent="-59112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azbijanje kristalov z UZ valov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ČNI ART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(= </a:t>
            </a:r>
            <a:r>
              <a:rPr b="0" i="1" lang="sl-SI" sz="2800" spc="-1" strike="noStrike">
                <a:solidFill>
                  <a:srgbClr val="000000"/>
                </a:solidFill>
                <a:latin typeface="Arial"/>
              </a:rPr>
              <a:t>če ste prespali seminar, vsaj to poslušajte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zliv v sklepu + vročina ali mrzlica =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um na septični art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čni artritis od putičnega lahko ločimo le z mikrobiološkimi-mikroskopskimi preiskavami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6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mergency,potentially serious conseque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Without patient history and exam you cannot properly treat or refer the pati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uncture/lab.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lavage </a:t>
            </a:r>
            <a:r>
              <a:rPr b="0" lang="sl-SI" sz="2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sl-SI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.v. antibioti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itfalls: not recognizing emergency, delay, peroral antibiotic, antibiotic before puncture, no lavag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7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228240" y="4724280"/>
            <a:ext cx="883908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ank you for saving my knee. I will recommend you to for the “Best ERASMUS Student” award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6" descr="4818823-happy-elderly-man-in-a-garden"/>
          <p:cNvPicPr/>
          <p:nvPr/>
        </p:nvPicPr>
        <p:blipFill>
          <a:blip r:embed="rId1"/>
          <a:stretch/>
        </p:blipFill>
        <p:spPr>
          <a:xfrm>
            <a:off x="1447920" y="0"/>
            <a:ext cx="6238800" cy="445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at should we also ask in patient 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ow long doe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For the first time in my lif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joint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? Chill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Spontaneous pain, night pai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patient repl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Knee starte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ver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nigh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t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s getting w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ir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ime knee swelling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ther joints OK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He had a fever up to 38 °C, occasional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hill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oes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Pain at rest, even at nigh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Regularly taking insul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the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pun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linical examin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ferral for laboratory test of inflammation (next day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Clinical examination of the knee should includ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kne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rubor, tumor, dolor, calor, f.l.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Range of motion (outstretched = 0 ° of flex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6" descr="3014"/>
          <p:cNvPicPr/>
          <p:nvPr/>
        </p:nvPicPr>
        <p:blipFill>
          <a:blip r:embed="rId1"/>
          <a:stretch/>
        </p:blipFill>
        <p:spPr>
          <a:xfrm>
            <a:off x="1714680" y="0"/>
            <a:ext cx="5715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t examination you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find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Severely swollen left kn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Positive balottement (extensive effusion)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w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ithout redness, warm, painfu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The mobility of the 20 ° - 50 ° of flexion (contractur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Neurological statu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O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Diffuse tenderness, without localized poi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Blood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glucose</a:t>
            </a:r>
            <a:r>
              <a:rPr b="0" lang="en" sz="2800" spc="-1" strike="noStrike">
                <a:solidFill>
                  <a:srgbClr val="000000"/>
                </a:solidFill>
                <a:latin typeface="Arial"/>
              </a:rPr>
              <a:t> (Glucometer) 12.0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g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abete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osteoarthritis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15:25Z</dcterms:modified>
  <cp:revision>17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