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media/image11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46F01-D53D-46C4-BA26-069BB235D1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8514A-D671-4C5A-9B7F-4A13538E9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C88D-4FCC-453D-9149-BEC383892C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7F452-C004-4F69-A061-C8CFA4E82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65C99-6FA8-40BE-A3FA-6878ED420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6824-E81D-4C7F-8D9E-8A5CF5252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5FA0B-6B86-4E9D-9658-97D2CB0B3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B299-A197-42A4-88CC-72AB670A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A339-7014-4A6A-B5D5-21AB862AF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F4C29-F972-4890-A3C0-E9055052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970A-E872-4F69-B99C-DC2297648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955A6-2A0E-4ECB-A14E-A19A7036E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6C0F9-A633-4BA2-9852-008FFC6F37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:39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5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al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tient knocks on the door of the clinic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b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ition and says with a suffer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voic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For 2 month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 have ha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e bac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m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ft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t week the pa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o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uch worse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adiat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dow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 left calf. I can not sta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ymore. Ple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help me, paracetamol and ketoprofen did not improve my sufferin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667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spine and hi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posture, physiological cur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, calf circumfere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and percussion, Homans sig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 ° of flexion) of the hip, knee, ank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 mot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tone, reflexes, sensor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icular atten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be pay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ègu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ing muscle streng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xtremities (walking on their toes / heels, getting up from the squa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f we fi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ura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importa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&gt; 3d FAST, ≤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d URG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rmato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istribution of hypoesthesi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tal examination to tes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ct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3429000" cy="2416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5638680" y="206676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"/>
          <p:cNvPicPr/>
          <p:nvPr/>
        </p:nvPicPr>
        <p:blipFill>
          <a:blip r:embed="rId3"/>
          <a:stretch/>
        </p:blipFill>
        <p:spPr>
          <a:xfrm>
            <a:off x="5638680" y="420048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4"/>
          <a:stretch/>
        </p:blipFill>
        <p:spPr>
          <a:xfrm>
            <a:off x="1295280" y="3581280"/>
            <a:ext cx="184788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t examination w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talg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 ga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n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f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e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ircumferen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lumbar lordosi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itive Lasègu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e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eft 50°, right ne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OM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 the hips and knees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i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re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l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duced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of the left foot and big toe dorsiflexion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level 4) for 10 day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ypoesthesia along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teral par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 the left lower le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tal examination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reflexes symmetr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ernia disc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ondylodisc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ft hip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yndroma </a:t>
            </a:r>
            <a:r>
              <a:rPr b="0" i="1" lang="sl-SI" sz="3200" spc="-1" strike="noStrike">
                <a:solidFill>
                  <a:srgbClr val="000000"/>
                </a:solidFill>
                <a:latin typeface="Arial"/>
              </a:rPr>
              <a:t>caudae equina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ich spinal nerve is affected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7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8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1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2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s now, prescription for further analgesia at home, referral for MRI and P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trong analgesic, improvement is expected in 1-2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 of the spine and then further deci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5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tme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-3 week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rest, analgesia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algesic PTH treatments (TENS,…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erci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ft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edu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RI for confirmation of diagnosis and decisions regard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rgic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his particular case 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rgical treatment i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ica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mergenc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553440" cy="49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en is emergency surgery indicate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probl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uncionally important palsy less than 3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5826240" y="3429000"/>
            <a:ext cx="3089160" cy="32004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457200" y="3657600"/>
            <a:ext cx="53341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uch cases should be immediately referred to the hospital with emergency MRI and emergency spinal surgical te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4576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whom would you refer such patient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(it is not emergency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hysical rehabilitation special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 HERNI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out history /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nination you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an not properly assess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operly refer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Know what is urgent (sphincter, paresis ≤ 3d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, what should be operat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quickly and what does not require surge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hould b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expla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natu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urse of the disease (2-3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eeks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in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tient triage without proper examination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elay i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ase o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phincter disorders, inaccurat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ssessm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muscl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w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6095880" y="457200"/>
            <a:ext cx="2590920" cy="169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905120" y="533520"/>
            <a:ext cx="5114880" cy="34002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457200" y="4038480"/>
            <a:ext cx="8458200" cy="20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’m so glad surgery was not required. You are such an excellent doctor who healed me in 3 weeks just by applying bioenergy with warm hands. Now I can start Pilates training agai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 you do with the patien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he next da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rescribe stronger analgesic and examine her tomorrow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is important t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ow long has the pain been radiating to the calf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irst time in her lif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? Chills?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u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SPHINCTER FUNCTI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5334120" y="3743280"/>
            <a:ext cx="3809880" cy="31147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5181480" y="228600"/>
            <a:ext cx="3810240" cy="3048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228600" y="957240"/>
            <a:ext cx="480060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radiating to the calf for 10 day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ral times painful back and hip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bu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v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b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 tod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ever or chil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trauma or ot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rigger fact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egular medications 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PHINCTER FUN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efecation is rather infrequ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every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e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quarter of a watermelon and drin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1 lit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wa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neral wa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rination is generally O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just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me urine drop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eaked because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 did not get to the toilet on time. 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eft hi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for MRI of the lumbar spi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7T05:06:45Z</dcterms:modified>
  <cp:revision>16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