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4A9-12C3-45CE-B2E5-003F1C3C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534B-5017-4F77-9A37-B1DD1720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C62-DBCA-463E-A38A-508097FC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4A8-DC97-4B1F-B974-297E232BA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5D2-2E31-4A6E-AA96-769DA154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B62-7976-4FC8-8478-DDB9AB1F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8338-F59B-4DCE-BD86-4878839C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A99-03E4-4EAB-88B5-E20CF5DE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7F4-2CCE-4473-8C57-BECFEE99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BDCC-F048-4916-A098-7B5204B4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306-359A-46CB-B013-208762D4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5BAF-6CDF-4E11-AF95-02FD0390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991A-C6A7-4D55-89C5-4C15D569F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 22.40 potrka na vrata ženska s 6-letnim jokavim otrokom in ga na rokah prinese v ambulanto, rekoč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 včeraj zjutraj šepa, spodbujali smo ga, naj hodi, a ni bilo nič bolje. Danes pa sploh noče več stopiti na desno nogo, jo vleče za sabo in toži za bolečinami pri vsakem premiku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kolka in kolena brez poseb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leno in gleženj prosto gibljiva, neboleč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sni kolk fleksija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a: desne dimlje in steg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 (kontraktura), abdukcija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zun. rot.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boleč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videzna skrajšanost desne sp. ekst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kutno poslabšanje displazij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s glavic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atero stanje je treba zdraviti takoj (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kutno poslabšanje displazij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s glavice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ob 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začeti zdravljenje z antibiotik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b. preiskave + UZ ko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Čimprejšnje razgibavanje, lab. preiskave in UZ kolka ju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tg medenice s kolk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o bo opravil UZ kol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sti, ki je usposobljen za 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a aseptične pogoje za izvedbo punkcije (če bo indicira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poslal vzorec na mikrobiološki pre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v primeru gnojnega punktata znal ukrepati napr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 ANTIBIOTIKA, DOKLER NI KUŽN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ijske preiskave urgen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komu bi napotili takšnega pacie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vma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k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istična prva pomo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op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OZ V BOLNI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. preisk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iti 8,0 z normalno D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: zmerno velik izliv v desnem kol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pa zdaj (1h ponoči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kolka + punkcija v spl. anestez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unkcija kolka v lok. anestez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jem v bolnišnico in opaz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vodila o strogem mirovanju, Rp za Naprosyn sirup in do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dravljenje prehodnega sinovitisa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čitek in strogo mirovanje vsaj 1 t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rok naj leži, brez vsakršne h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REZ RAZGIBA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prosyn sirup (NS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vodila glede poslabšanja st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ntrolni pregled/UZ čez 1 t, eventuelni Rtg ob neizboljšanju čez 3 ted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aj je treba storiti z očitnim septičnim artritisom kolka (prizadet febrilen otrok, CRP 120, izliv v kolku) ob 1h zjutra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šnja antibiotična terap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 in nato antibiotična terap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op. drenaža sklepa, nato a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RI, punkcija, op. drenaža sklepa, a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otroku je treba ob septičnem artritisu vedno pomisliti na možnost osteomielitisa, zato je potreben MRI (da se izvede pravilna operativna terapij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Žile za prehrano kolčne glavice potekajo INTRAKAPSULARNO, zato zakasnitev zdravljenja pomeni veliko tveganje za aseptično nekrozo kolčne gla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pajoč neprizadet afebrilen 4-8 letnik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prehodni sinovitis ko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ključiti septični artritis, pri starejših otrocih z velikimi BMI pa tudi zdrs kolčne gla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Večinoma mine brez posledic ob pravilni 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hko je to le začetek Perthesove bolez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stvena je klinična slika, SPANJE PONOČI, UZ in laboratorijske preisk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apake: odklonitev pacienta, zakasnitev septičnega artritisa, predpisovanje p.o. antibiotika “za vsak primer” (naj dobi i.v. ali pa nič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HODNI SINOVITIS KOL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vala, ker ste s preiskavami hitro izključili septični artritis in me poslali domov. Zdaj mi bodo starši končno pustili, da v postelji en teden igram Ninten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storite s pacient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oj ga NUJNO napotite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napotnico, jutri pregled v bolnišn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cienta pregledate in se nato odloč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zdate Rp za analgetik in ga naročite na pregled naslednji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bolečine in kaj ga bol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KO JE SPAL PONOČ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 Viroze zadnji mese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 bolečine ali pri obremenjevanj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čkova mama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so drugi dan, boli desno steg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noči se je 1x zbudil zaradi boleč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l vročino do 3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 včeraj, zdaj 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 spomni se poškod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pri premikanju ali stoje, leže 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o ne jemlje zdravil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izkus punkcije kolka in ko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linični pregled spodnjih ekstremi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damo napotnico za laboratorijske preiskave vnetnih parametrov (jut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ečka takoj napotimo v bolniš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spodnjih ekstremit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meritve, primerjava z zdra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(oteklina, izliv ali zadebel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naki vnetja (rubor, tumor, dolor, calor,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e ekstre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e to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kolku smo še posebej pozorni 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lektorna kontraktura (Thomasov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bsolutna/navidezna/funkcionalna razlika v dolžini spodnjih ekstremi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Šepanje v kolku (bolečina, razlika, parez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 kolku si z inspekcijo in palpacijo ne moremo pomagati (debela plast miš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02T16:32:28Z</dcterms:modified>
  <cp:revision>1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