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FE4-D7CB-4C05-BB40-9A6F8C1B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E99-D2E9-43EA-BA5F-D27E1C6C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C26-820C-44E5-A7E8-4344B801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418E-1A09-4567-ADDB-CF3FA76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4539-9FC9-4A06-84B5-26A04C4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63E-CA77-4F8F-9997-52020BBD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EDF-0D68-4CE2-AB2D-8A2ED8EE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036-4EFF-41CB-9AB3-7B07FB16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296-A934-4BEF-BAF9-CB66CCB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53E-B0DA-419F-A16D-EB7D8A6A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DE7-DFE6-45D4-A21E-E1465A19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E5C-E4AB-4449-9048-BEA9661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55B6-A7B7-4ABC-A9F4-4B43E0DC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 22.41 potrka na vrata 72-letni pacient prišepa v ambulanto in dvigne levo hlačnico rekoč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i je včeraj ponoči začelo otekati, vedno bolj me boli, sedaj je že nevzdržno. Prosim, storite kaj, Lekadol in Ketonal mi nič več ne pomagat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j je nujen naslednji korak (23h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oj začeti zdravljenje z antibiotik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. preiskave + punkcija sredi no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Čimprejšnje razgibavanje kolena, lab. preiskave in punkcija ju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tg kol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do bo opravil punkcijo kole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isti, ki je usposobl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a aseptične pogoje za izvedbo punk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poslal vzorec na mikrobiološki preg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 v primeru gnojnega punktata znal ukrepati napr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 ANTIBIOTIKA, DOKLER NI KUŽNI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ijske preiskave urgent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 komu bi napotili takšnega pacie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vma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ktolo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istična prva pomo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op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OZ V BOLNIŠ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preisk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kociti 11,5 s pomikom v levo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za 13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kcija: 50 ml, moten, gost, rumenorja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kometer punktata: glukoza 2’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Kaj je treba storiti s punktat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mikrobiološko kul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slati na razmaz po Gramu, mikrobiol. kulturo in mikroskopski pregled krista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kroskopsko oceniti prisotnost bakter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vreči v zabojnik za kužno vse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ski razmaz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2 ur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biološka kultura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v 1-2 dn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roskopski pregled kristalov:  1 te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a je sedaj 01:00 zjutra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ob 01:00 potrebuje pac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roskopsko) izpiranje kolena in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k, izpiranje če ni izboljš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ni antibiotik in razgib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izacija, atb po izvidu mikrob k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piranje kolena, po možnosti artroskopsk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ventuelne hemok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tik, imobilizacija, hlaj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mikrob. izvidu prilagoditev atb terapije (negativen izvid ne izključuje septičnega artritisa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novitev izpiranja, če ponovno oteč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 2-3 neuspešnih izpiranjih artrotom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goročne posledice po uspešno pozdravljenem septičnem artritis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gantocelularni tumor sinovialne ovoj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anje malih sklepov r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uptura meniskus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soda pacientov s septičnim artritisom kolena pred dobo antibiotiko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Artroza skle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Kostna ankiloza sklepa (fibrozna pri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a, lahko tudi sm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no stanje, potencialno resne posled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z anamneze/pregleda ne morete pravilno oceniti urgentnosti in bolnika pravilno napot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gl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/lab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piranj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v. antibio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pake: odklonitev pacienta, zakasnitev, p.o. antibiotik, antibiotik pred punkcijo, brez izp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ala, ker ste mi pozdravili koleno. Že jutri bom glasoval za vas v Janini akciji “Zdravnik leta”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j je pomembno vprašati v anamnez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iko časa otekl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ič v življenju? Drugi sklep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čina? Mrzl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ožilni dejavniki (poškodb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 bolečine, nočne boleč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e bolezni, zdravila, al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cient nam odgovo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oleno začelo otekati ponoči, se slabš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eklina kolena prvič, drugi sklepi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el vročino do 3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, občasno mrz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 spomni se poškod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ine v mirovanju, tudi pon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dno jemlje insulin, alergij ne nav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j je naš naslednji kora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cija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inični pregled kol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zdamo napotnico za laboratorijske preiskave vnetnih parametrov (jut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enta takoj napotimo v bolniš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linični pregled kolena naj obseg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kcija (meritve, primerjava z zdrav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pacija (oteklina, izliv ali zadebelit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naki vnetja (rubor, tumor, dolor, calor,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bseg gibljivosti (iztegnjeno = 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spodnje ekstrem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oleče toč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i pregledu ugotov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vo koleno močno otek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zitiven balottement (obsežen izl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rez rdečine, toplejše, bole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bljivost 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fleksije (kontraktu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vrološki status b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fuzna bolečnost, brez lokaliziranih toč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rvni sladkor (glukometer) 12,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a je naša delovna diagno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čni artritis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utni napad put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tirjena sladkorna bol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labšanje artroze kol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2-10-10T05:08:42Z</dcterms:modified>
  <cp:revision>1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