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1.jpeg" ContentType="image/jpeg"/>
  <Override PartName="/ppt/media/image4.jpeg" ContentType="image/jpeg"/>
  <Override PartName="/ppt/media/image40.png" ContentType="image/png"/>
  <Override PartName="/ppt/media/image25.png" ContentType="image/png"/>
  <Override PartName="/ppt/media/image4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07E-2DE1-4D7E-A2FD-3E9632B5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89F-BCE9-42A0-849A-97B0D5CF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E055-E868-455C-91B1-32809AD7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FFE-D489-476A-AE88-9090D28A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9682-0B08-469F-9D29-1F3B88D9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BEC1-48B2-40D9-93E1-61DF1B8A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C74B-4957-4620-A8E0-B9856E49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2D35-4F17-458D-9769-93ECD47B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F604-C52C-46DA-9F67-4EFF450F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D745-7AEF-475C-896A-7DB78C5C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428C-9BEC-4496-97FE-4D7A689F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083-E21A-41AC-BF2A-C7C69190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C66F-741C-4385-8F87-96C1F1A9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8762-EC30-4463-B5EB-41F39F6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784F-2A07-4F3D-BFE8-00544DC2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B1D5-809A-4FE1-8FE8-C6BF7270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D783-4BBA-44A1-B788-07AF60B0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F93-3C98-471A-BB83-6DB9C362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AE0-B71A-4794-B9DC-57F5E78C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877-5C0F-4D38-A8BC-2C976463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13D-A0F7-43FF-9AAD-B1B31D3A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B294-4FAB-46A5-A2CE-69CF6DC8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53B-4AD3-4187-997D-F8A8D5E9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592-1AA7-4B72-B5C1-07E89898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48B4-CDE2-4537-811B-FA4551035A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2F0E-7E59-4949-AD8D-D721D70B8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8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KATEDRA ZA ORTOPEDIJO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www.mf.uni-lj.si/kort/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ortoped@mf.uni-lj.si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v kolk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nanja rot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ranja rot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bušna lega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84800" y="260280"/>
            <a:ext cx="2492640" cy="3773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708360" y="3736800"/>
            <a:ext cx="3456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</a:t>
            </a: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FABER</a:t>
            </a: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:  DDg kolk/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eže na hrbtu položi pacient stopalo na nasprotno ko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ečina v dimljah govori za kolčno patologi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itisk na koleno in nasprotno spino lahko povzroči bolečino v 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651640" y="2060640"/>
            <a:ext cx="2693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ritev dolžine ud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cija anteriornih superiornih spin ali iliakalnih krist stoje; ocena nagiba med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ritev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solutne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dolžine spodnjih udov leže (od SIAS do medialnega maleo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omembnejša od relativne dolžine (od popka do medialnega maleola) je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funkcionaln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dolžina, ki je odraz vseh kontraktur in prikrajša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ntgenska skenometr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olžina spodnjih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ekstremite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olutna dolž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dezna dolž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kcionalna dolžina: izravnava medenice s podlaganj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189000"/>
            <a:ext cx="2138400" cy="298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056280" y="3068640"/>
            <a:ext cx="28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KOLEN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20760" y="0"/>
            <a:ext cx="66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eno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lik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ži neposredno pod kož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vržen poškodb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iskusa zagotavljata maksimalno elastičnost ob maksimalni stabilnosti skl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 stabilnost so pomembne vez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lpacija tipičnih točk na kolen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dduktorni tuberk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rh pogač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uberozitas tib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ava fib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ni kolateralni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na in lateralna sklepna špra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Narastišče tetiv pes anseri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erdyjev tuberkel (narastišče traktusa iliotibialis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kole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kurvatum (= hiperkekstenz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inimalne rotacije v fleksiji (jih ne merim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ska kontrak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ava kontraktura (pasivn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zpad ekstenzije (aktivn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2766960" cy="1981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292720" y="4437000"/>
            <a:ext cx="2766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bsegi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bseg čez pogačico (izliv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5 cm nad pogačico (reces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10 cm nad pogačico (muskulatura – atrofij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KOL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gotavljanje izliva v kole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Balottement”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pate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nik lež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esno koleno je iztegnj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 levico iztisnemo suprapatelarni rece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 prsti desnice hitro potisnemo patelo proti podlagi (femoralni trohlej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Čutimo trd dotik kosti na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940360" y="2060640"/>
            <a:ext cx="3273480" cy="4403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s kolen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62024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iomehanična os stoje:  center glavice kolka, center kolena, center glež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dstopanje:  varus, val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Ženske imajo konstitucionalni valgus (širša medeni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troci sprva varus, nato valgus, nato normalno 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, valgus artr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hlapnost v frontalni ravnin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210440" cy="23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oleno se na nateg odpira v ekstenziji (kar kaže na prizadetost prednje križne vezi) ali le v fleksiji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Odpiranje na valgus nateg (X):  ohlapnost medialne kolateralne vezi (in prednje križne vez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Odpiranje na varus nateg (O):  ohlapnost lateralne kolateralne vezi (in prednje križne vezi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3703680"/>
            <a:ext cx="54100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na nestabilnost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sprednji križni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Sprednji predalčni fen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ž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 9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Vlek golenice navzp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java D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038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na nestabilnost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sprednji križni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Lachmanov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že na hrb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 levico fiksiramo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 desnico potegnemo golen navzp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java D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3311640" cy="23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3467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148360" y="1589040"/>
            <a:ext cx="3527280" cy="2525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na nestabilnost:  zadnji križni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859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Zadnji predalčni fen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že na hrb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 8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tisk navzad – translacija tibije na femorj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odoben sprednjemu:  repozicija iz subluksaci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imerjava D/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ogled od strani (kontura kole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8360" y="382104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anipulacija v fleksiji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enisku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McMurrayev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sti na sklepni špranj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tiramo/ekstendiramo/rotira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Čakamo preskok (ki ga včasih tudi slišim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reskok je boleč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244600" cy="3413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103640" y="4199040"/>
            <a:ext cx="5040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ogač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Največja sezamoidna k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zboljša učinkovitost ekstenzije kole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blem sprednje bolečnosti kolena, nestabilnosti pogač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rcRect l="0" t="0" r="2693" b="0"/>
          <a:stretch/>
        </p:blipFill>
        <p:spPr>
          <a:xfrm>
            <a:off x="5457960" y="2176560"/>
            <a:ext cx="2354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za hondropatijo pate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Zohlerjev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Leže na hrb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Iztegnjeno kol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Blag potisk patele navzd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Kontrakcija kvadricep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Primerjava D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Bolečin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estiranje moč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 ekstenzije kol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 fleksije kole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alpacija tipičnih točk v predelu kolk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eliki trohanter (vrh, zadnji rob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zstopišče ishiadik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ulz arterije femoralis pod ingvinalnim ligament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li tro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pina iliaka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RAM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Figure 1A"/>
          <p:cNvPicPr/>
          <p:nvPr/>
        </p:nvPicPr>
        <p:blipFill>
          <a:blip r:embed="rId2"/>
          <a:srcRect l="0" t="0" r="2742" b="0"/>
          <a:stretch/>
        </p:blipFill>
        <p:spPr>
          <a:xfrm>
            <a:off x="0" y="549360"/>
            <a:ext cx="889488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670120" y="-14054040"/>
          <a:ext cx="182520" cy="34967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aeae"/>
                    </a:solidFill>
                  </a:tcPr>
                </a:tc>
              </a:tr>
              <a:tr h="3456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3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{short description of image}"/>
          <p:cNvPicPr/>
          <p:nvPr/>
        </p:nvPicPr>
        <p:blipFill>
          <a:blip r:embed="rId2"/>
          <a:stretch/>
        </p:blipFill>
        <p:spPr>
          <a:xfrm>
            <a:off x="2824200" y="-14007960"/>
            <a:ext cx="38160" cy="37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Figure 1B"/>
          <p:cNvPicPr/>
          <p:nvPr/>
        </p:nvPicPr>
        <p:blipFill>
          <a:blip r:embed="rId3"/>
          <a:stretch/>
        </p:blipFill>
        <p:spPr>
          <a:xfrm>
            <a:off x="2760840" y="-13366800"/>
            <a:ext cx="3714480" cy="22003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Figure 1B"/>
          <p:cNvPicPr/>
          <p:nvPr/>
        </p:nvPicPr>
        <p:blipFill>
          <a:blip r:embed="rId4"/>
          <a:stretch/>
        </p:blipFill>
        <p:spPr>
          <a:xfrm>
            <a:off x="826920" y="2060640"/>
            <a:ext cx="7274160" cy="430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7b9cb5"/>
                </a:solidFill>
                <a:latin typeface="Tahoma"/>
              </a:rPr>
              <a:t>Rotatorna manše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enohumeral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kromioklavikular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torakalni st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ternoklavikular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ezi med klavikulo in skapu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humeralni rite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pazovanje pri giban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bitualna luks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capula alata” pri naslanjanju na steno (pareza n. thoracici longi ali m. serrati a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trofija deltoida, supraspinat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uksacija (anteriorna, posterior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kromioklavikularna sindezmoliza (“klavirska tipka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2703600"/>
            <a:ext cx="5638680" cy="41544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562360" y="2282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bakromialni pros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kromioklavikularni skl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orako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Gibljivost (akt./pa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bd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dd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ks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unanja ro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otranja rotacija (v addukciji ali v abdukciji 90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 za subakromialno utesnitev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boleči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4316400" cy="32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lasični </a:t>
            </a: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Neer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eiskovanec sedi, zdravnik sto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oka med abdukcijo in antefleksi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dravnik elevira ro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ečina pri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ks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Figure 5"/>
          <p:cNvPicPr/>
          <p:nvPr/>
        </p:nvPicPr>
        <p:blipFill>
          <a:blip r:embed="rId2"/>
          <a:srcRect l="0" t="0" r="6756" b="0"/>
          <a:stretch/>
        </p:blipFill>
        <p:spPr>
          <a:xfrm>
            <a:off x="4351320" y="2276640"/>
            <a:ext cx="446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 za subakromialno utesnitev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boleči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28180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wkinsova modifikacija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(testira utesnitev supraspinatusa pod CA ligamento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ksija hum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otranja rotacija hum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" descr="Figure 6"/>
          <p:cNvPicPr/>
          <p:nvPr/>
        </p:nvPicPr>
        <p:blipFill>
          <a:blip r:embed="rId2"/>
          <a:srcRect l="0" t="0" r="3580" b="0"/>
          <a:stretch/>
        </p:blipFill>
        <p:spPr>
          <a:xfrm>
            <a:off x="2124000" y="3573360"/>
            <a:ext cx="482436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Moč supraspinatu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bdukcija v rami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ntefleksija 3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ksimalna notranja rot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cient se upira pritisku navzdol na komolec, ki ga izvaja zdrav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olečin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AC (akromioklavikularni) skle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spekcija (klavirska tipka ob sindezmolizi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Test horizontalne addukcije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cross-arm t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ntgenski kriteriji (Rockwoodova klasifikacij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" descr="Figure 7"/>
          <p:cNvPicPr/>
          <p:nvPr/>
        </p:nvPicPr>
        <p:blipFill>
          <a:blip r:embed="rId2"/>
          <a:stretch/>
        </p:blipFill>
        <p:spPr>
          <a:xfrm>
            <a:off x="5207040" y="255276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gibljivost sklep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ks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k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zunanja ro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otranja rotac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Merimo leže.  Rotaciji merimo v fleksiji ali (bolje) v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trebušni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leg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8680" y="4038480"/>
            <a:ext cx="3124440" cy="2625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26640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ranje bicepsa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olečina nad sulkus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 za tendinitis dolge kite:  </a:t>
            </a: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Yergason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 test stabilnosti kite v sulku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cient supinira in flektira komole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dravnik komolec rotira navzven se upira supinac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oleči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Figure 9"/>
          <p:cNvPicPr/>
          <p:nvPr/>
        </p:nvPicPr>
        <p:blipFill>
          <a:blip r:embed="rId2"/>
          <a:stretch/>
        </p:blipFill>
        <p:spPr>
          <a:xfrm>
            <a:off x="5108400" y="2205000"/>
            <a:ext cx="40356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ranje bicepsa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Speed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maneve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pogib komolca 20-3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, supinirana podleht, 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ksije, zdravnik se upira nadaljnji fleksiji rame in palpira biceps v sulku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 stabilnosti rame: </a:t>
            </a:r>
            <a:br>
              <a:rPr sz="4000"/>
            </a:br>
            <a:r>
              <a:rPr b="0" lang="en-US" sz="4000" spc="-1" strike="noStrike">
                <a:solidFill>
                  <a:srgbClr val="ffdb41"/>
                </a:solidFill>
                <a:latin typeface="Tahoma"/>
              </a:rPr>
              <a:t>sprednja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nestabilno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Apprehension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”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eiskovanec leži ali sedi;  roka v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bdukcije; zdravnik pritiska humerus naprej in navzven rotira ramo</a:t>
            </a: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bolečina ali občutek, da bo prišlo do izp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Sledi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 test repozi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Figure 8"/>
          <p:cNvPicPr/>
          <p:nvPr/>
        </p:nvPicPr>
        <p:blipFill>
          <a:blip r:embed="rId2"/>
          <a:srcRect l="0" t="0" r="2958" b="0"/>
          <a:stretch/>
        </p:blipFill>
        <p:spPr>
          <a:xfrm>
            <a:off x="4762440" y="2565360"/>
            <a:ext cx="36972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 stabilnosti rame:</a:t>
            </a:r>
            <a:br>
              <a:rPr sz="4000"/>
            </a:br>
            <a:r>
              <a:rPr b="0" lang="en-US" sz="4000" spc="-1" strike="noStrike">
                <a:solidFill>
                  <a:srgbClr val="ffdb41"/>
                </a:solidFill>
                <a:latin typeface="Tahoma"/>
              </a:rPr>
              <a:t>zadnja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nestabilno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cient leži ali se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Rama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abdukcije in komolec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fleks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Zdravnik potisne humerus naza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esti stabilnosti rame:</a:t>
            </a:r>
            <a:br>
              <a:rPr sz="4000"/>
            </a:br>
            <a:r>
              <a:rPr b="0" lang="en-US" sz="4000" spc="-1" strike="noStrike">
                <a:solidFill>
                  <a:srgbClr val="ffdb41"/>
                </a:solidFill>
                <a:latin typeface="Tahoma"/>
              </a:rPr>
              <a:t>spodnja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nestabilnos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5364000" cy="37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Znak 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sulkus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spodnja glenohumeralna nestabilnost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b potegu viseče roke navzdol se lateralno in pod akromionom oblikuje utor (lahko normalno pri mladih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Figure 10"/>
          <p:cNvPicPr/>
          <p:nvPr/>
        </p:nvPicPr>
        <p:blipFill>
          <a:blip r:embed="rId2"/>
          <a:srcRect l="0" t="0" r="3858" b="0"/>
          <a:stretch/>
        </p:blipFill>
        <p:spPr>
          <a:xfrm>
            <a:off x="6012000" y="2133720"/>
            <a:ext cx="2808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amenski te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39640" y="1268280"/>
          <a:ext cx="8229600" cy="5054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ma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d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dleht v fleksij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akrom. utesnit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wk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. 90, n.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tesnitev suprasp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op-arm tes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uščanje iz abdukcij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ztrganina rot. manš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rizont. ad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bd. 90, a.fl.90, ad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 v AC sklep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prehensio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.r., abd. 90, 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aprej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riorna nesta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Znak sulku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lek roke navzd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eriorna nesta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Yergas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r fleksiji in sup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 bicep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por fleksiji in supi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blem bicep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ama:  DDg bolečine v ram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Patologija rotatorne manše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estabilnost (anteriorna, posteriorna, multidirekcionaln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endinitis bicep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vaskularna nekroza glavice hum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rtroz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Kalcinirajoči tendinitis (PHS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mpingement supraskapularnega živ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kvara brahialnega pleks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rahialni nev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Nevropatska ra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indrom torakalnega izho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KOMOLEC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molec:  gibljivos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leksija 0/15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8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pro- in supin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Za funkcijo potrebnih 30/130 fleksije in 50 pro- in supinaci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leksijska kontrak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Komolec:  palpacija tipičnih toč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ni epikond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ni epikond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lekran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avica radi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Radiohumeralni skle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torna kontaktura:  Thomasov te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krajna fleksija nasprotnega kolka obliterira lumbalno lordozo, zato se manifestira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flektorna kontraktura, ki jo je pacient kompenziral s povečano lumbalno lordoz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ktorna kontraktura:  funkcionalno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krajš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no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ktorna kontraktura:  funkcionalno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daljš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no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najpogostejša je kombinacija flektorne, adduktorne, zunanje rotatorne kontrak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mole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rjenje obsega s šiviljskim met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Bice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- in supinator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stabilnos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Valgus nat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Varus nat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ZAPESTJ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apest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ibljivost v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:  funkcionalno fl. in ekst. po 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kstenzij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alna deviacija 2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lnarna deviacij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nacij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upinacija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apest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bs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paci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alnega stiloida (stiloiditis, stenozantni tendinitis de Quervai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lnarnega stilo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Navikular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Zapestje:  utesnitev medianu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Tinel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znak:  parestezije po perkusiji median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Phalenov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znak:  parestezije ob skrajni dorzifleksiji ali volarni fleksiji zapestja (držimo cca 30 sec do 1 mi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DLAN, PRSTI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lan, pr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kcija, palpaci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teklina DIP, PIP, MCP; CMC sklep palca (rizartroz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eberdenovi vozlič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aleus deforma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rigger finger/thumb”:  preskakovanje in boleč pritisk na flek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ibljivost v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CP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IP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      1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IP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lan, pr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hlapnost sklep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tabilni v ekstenz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hlapni v fleksij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hlapnost ulnarnega kolateralnega ligamenta CMC sklepa palca po poškodb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estiranje moč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VAJE IZ ORTOPED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GLEŽENJ, STOPAL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leženj in stopa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bse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pacija tipičnih toč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ibljivost v zgornjem skočnem sklep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ubtalarna gibljiv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olžina Ahilove te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oč:  dorzifleksija, plantarna fleksija, peroneusa, pos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ec in mali prsti:  tipične deformacije, gibljiv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v kolk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že na hrb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cient “poravnan” (medenica pravokotno na vzdolžno os ležišč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je preiskoval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ksacija meden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254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Obseg gležnja in palpacija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ipičnih točk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Oteklina ob zvinu (primerjava D/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lpacija maleolov, sklepne špranje, narastišča Ahilove tetive, glavice 5. metatarzale, navikularke, grče petn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Gibljivost 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 zgornjem/spodnjem skočnem sklepu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orzi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lantarna 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Ekvinus (ekvinova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av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lgus (planovalg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hilova tetiv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rajšana:  stopalo v plantarni fleksiji (ekvinus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hompsonov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cient leži na trebuh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Ob gnetenju gastroknemiusa pride pri intaktni Ahilovi tetivi do plantarne fleksije v gležn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Če je strgana, giba 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č mišic ob gležnj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lantarna 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orzifleks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eroneu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ostik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alec in mali prst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luks valg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luks rigid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igitus flek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igitus ma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706560" cy="2985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665440" cy="3565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900000" y="3860640"/>
            <a:ext cx="16146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eriferni pulzi na noga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465880" y="1628640"/>
            <a:ext cx="2954160" cy="43927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120760" y="1628640"/>
            <a:ext cx="29959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ibljivost v kolk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ks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Thomasov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za identifikacijo flektorne kontrak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6920" y="4221000"/>
            <a:ext cx="3176640" cy="2251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267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2852640"/>
            <a:ext cx="339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0600"/>
                </a:solidFill>
                <a:latin typeface="Tahoma"/>
              </a:rPr>
              <a:t>NAPAČNO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du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ddu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76720" y="3719520"/>
            <a:ext cx="4067280" cy="27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Abduction Of Hip"/>
          <p:cNvPicPr/>
          <p:nvPr/>
        </p:nvPicPr>
        <p:blipFill>
          <a:blip r:embed="rId3"/>
          <a:stretch/>
        </p:blipFill>
        <p:spPr>
          <a:xfrm>
            <a:off x="5073480" y="907920"/>
            <a:ext cx="4070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Kol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ntgenska ocena:  varus, valgus,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nteverz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lgus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oz.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rusa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kolka klinično ne vidi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udi povečane anteverzije vratu stegnenice ne vidimo, jo pa lahko ocenimo s pomočjo notranje rotaci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724280" cy="3279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27640" y="3435480"/>
            <a:ext cx="47242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6:41:22Z</dcterms:created>
  <dc:creator>Uporabnik</dc:creator>
  <dc:description/>
  <dc:language>en-US</dc:language>
  <cp:lastModifiedBy>SZDZO</cp:lastModifiedBy>
  <dcterms:modified xsi:type="dcterms:W3CDTF">2013-10-01T06:23:59Z</dcterms:modified>
  <cp:revision>44</cp:revision>
  <dc:subject/>
  <dc:title>VAJE IZ ORTOPEDIJE</dc:title>
</cp:coreProperties>
</file>